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210A-3B85-4C87-94E9-813DB0910A8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C604-7C22-469D-975E-263F247DE4D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B617-E234-4A45-8736-122E74323C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E6D9D-1986-49CD-ACF3-7039EF71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A6980-4219-4D1C-9352-3B8F1746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9BBB7-296C-45A4-AAD9-D2CC26B728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0A143-8446-47F9-973B-13839E79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3B8AF-AF17-4438-9C10-F5118500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74764-30E5-4F55-8A0F-6BD1C625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62872-4276-45E8-9FB0-77A52844F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8FBFB-2617-4B1E-80EA-A975FD7B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50B9A-E623-4312-9CC0-36055D57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1415B-6F8A-4FED-A68F-DF3754C1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407F9-40F7-4193-819E-87EBD74E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FD5A-14BC-4BBC-9226-C6F9C21D598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20718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运动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64000" y="51577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毛玉瑢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强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H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P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持续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 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~30min,  5mi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qd, qo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设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张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长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速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伸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13712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指用来延长病理性缩短的软组织而增加或改善活动度的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被动牵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动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柔软性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柔软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图片 4" descr="37AO2123.jpg"/>
          <p:cNvPicPr/>
          <p:nvPr/>
        </p:nvPicPr>
        <p:blipFill>
          <a:blip r:embed="rId1"/>
          <a:srcRect l="13579" t="37907" r="23764" b="27723"/>
          <a:stretch/>
        </p:blipFill>
        <p:spPr>
          <a:xfrm>
            <a:off x="4859280" y="4497480"/>
            <a:ext cx="1944720" cy="1884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7164360" y="4929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跟腱牵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图片 7" descr="1.jpg"/>
          <p:cNvPicPr/>
          <p:nvPr/>
        </p:nvPicPr>
        <p:blipFill>
          <a:blip r:embed="rId2"/>
          <a:stretch/>
        </p:blipFill>
        <p:spPr>
          <a:xfrm>
            <a:off x="4716360" y="2421000"/>
            <a:ext cx="3672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理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hysiologic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通过他人或外力进行的被动关节活动，但这种运动也可以通过自身主动活动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属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ccessory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能通过被动活动来完成的关节运动，自己不能主动完成，但这种关节运动是存在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适应证与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9280" y="1988640"/>
            <a:ext cx="81597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疼痛，反射性肌肉收缩或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逆性关节活动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渐进性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制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操作分级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85840" y="1000080"/>
            <a:ext cx="8966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起始段进行小幅度的节律性振动，主要用于缓解疼痛或降低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行大幅度的节律性振动，但活动终点未触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。可分Ⅱ－、Ⅱ和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用于维持关节内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进行大幅度的节律性振动，用于减轻挛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终末端进行小幅度的节律性振动，可打断粘连的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857240" y="5429160"/>
            <a:ext cx="6553440" cy="970200"/>
            <a:chOff x="1857240" y="5429160"/>
            <a:chExt cx="6553440" cy="970200"/>
          </a:xfrm>
        </p:grpSpPr>
        <p:sp>
          <p:nvSpPr>
            <p:cNvPr id="177" name="AutoShape 7"/>
            <p:cNvSpPr/>
            <p:nvPr/>
          </p:nvSpPr>
          <p:spPr>
            <a:xfrm>
              <a:off x="1857240" y="5429160"/>
              <a:ext cx="655344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2228400" y="5695920"/>
              <a:ext cx="0" cy="26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228400" y="5829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Line 10"/>
            <p:cNvSpPr/>
            <p:nvPr/>
          </p:nvSpPr>
          <p:spPr>
            <a:xfrm>
              <a:off x="2228400" y="5829840"/>
              <a:ext cx="571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>
              <a:off x="7946280" y="5695920"/>
              <a:ext cx="0" cy="267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 flipV="1">
              <a:off x="2228400" y="5695560"/>
              <a:ext cx="30888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4082760" y="5964120"/>
              <a:ext cx="231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2537640" y="609768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5783040" y="569592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>
              <a:off x="5783040" y="6097680"/>
              <a:ext cx="185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>
              <a:off x="7482240" y="5964120"/>
              <a:ext cx="46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WordArt 18"/>
            <p:cNvSpPr txBox="1"/>
            <p:nvPr/>
          </p:nvSpPr>
          <p:spPr>
            <a:xfrm>
              <a:off x="2073240" y="5964120"/>
              <a:ext cx="154800" cy="26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46ca6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46ca6"/>
                </a:solidFill>
                <a:latin typeface="宋体"/>
                <a:ea typeface="宋体"/>
              </a:endParaRPr>
            </a:p>
          </p:txBody>
        </p:sp>
        <p:sp>
          <p:nvSpPr>
            <p:cNvPr id="189" name="WordArt 19"/>
            <p:cNvSpPr txBox="1"/>
            <p:nvPr/>
          </p:nvSpPr>
          <p:spPr>
            <a:xfrm>
              <a:off x="7946280" y="5964120"/>
              <a:ext cx="154800" cy="22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0" name="WordArt 20"/>
            <p:cNvSpPr txBox="1"/>
            <p:nvPr/>
          </p:nvSpPr>
          <p:spPr>
            <a:xfrm>
              <a:off x="2382480" y="5429160"/>
              <a:ext cx="90000" cy="16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1" name="WordArt 21"/>
            <p:cNvSpPr txBox="1"/>
            <p:nvPr/>
          </p:nvSpPr>
          <p:spPr>
            <a:xfrm>
              <a:off x="5164920" y="6097680"/>
              <a:ext cx="17748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2" name="WordArt 22"/>
            <p:cNvSpPr txBox="1"/>
            <p:nvPr/>
          </p:nvSpPr>
          <p:spPr>
            <a:xfrm>
              <a:off x="6555240" y="54291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3" name="WordArt 23"/>
            <p:cNvSpPr txBox="1"/>
            <p:nvPr/>
          </p:nvSpPr>
          <p:spPr>
            <a:xfrm>
              <a:off x="7637400" y="6097680"/>
              <a:ext cx="1785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V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330948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-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5" name="WordArt 25"/>
            <p:cNvSpPr txBox="1"/>
            <p:nvPr/>
          </p:nvSpPr>
          <p:spPr>
            <a:xfrm>
              <a:off x="655524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+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268280"/>
            <a:ext cx="91440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肺部疾患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肺炎、肺扩张不全、肺栓塞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RD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胸腹部疼痛（手术或外伤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继发性气道阻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疾患造成的肌肉无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骼异常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和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改善呼吸肌力量及协调性，增加有效咳嗽频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保持胸腔活动度，改善换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矫正无效或异常呼吸模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横膈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缩唇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胸廓松动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强肌力和感觉功能（本体感觉训练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建或改善平衡功能，降低肌张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神经系统疾病或损伤等所致平衡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骼肌肉疾病引起肌力下降和关节活动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视觉和听觉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549360"/>
            <a:ext cx="8077320" cy="3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康复护理种类和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8584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态平衡练习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卧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坐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跪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站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腿平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常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10s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动态平衡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软地面、平衡板、步行、游戏、打球、太极拳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8" name="组合 8"/>
          <p:cNvGrpSpPr/>
          <p:nvPr/>
        </p:nvGrpSpPr>
        <p:grpSpPr>
          <a:xfrm>
            <a:off x="1928880" y="3643200"/>
            <a:ext cx="2448000" cy="2606760"/>
            <a:chOff x="1928880" y="3643200"/>
            <a:chExt cx="2448000" cy="2606760"/>
          </a:xfrm>
        </p:grpSpPr>
        <p:pic>
          <p:nvPicPr>
            <p:cNvPr id="209" name="Picture 4" descr="37AO1614_缩小大小"/>
            <p:cNvPicPr/>
            <p:nvPr/>
          </p:nvPicPr>
          <p:blipFill>
            <a:blip r:embed="rId1"/>
            <a:srcRect l="5683" t="9449" r="8525" b="4252"/>
            <a:stretch/>
          </p:blipFill>
          <p:spPr>
            <a:xfrm>
              <a:off x="1928880" y="3643200"/>
              <a:ext cx="2448000" cy="26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圆角矩形 6"/>
            <p:cNvSpPr/>
            <p:nvPr/>
          </p:nvSpPr>
          <p:spPr>
            <a:xfrm>
              <a:off x="3094200" y="3938400"/>
              <a:ext cx="466560" cy="36324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1" name="组合 9"/>
          <p:cNvGrpSpPr/>
          <p:nvPr/>
        </p:nvGrpSpPr>
        <p:grpSpPr>
          <a:xfrm>
            <a:off x="5214960" y="3571920"/>
            <a:ext cx="2376360" cy="2736720"/>
            <a:chOff x="5214960" y="3571920"/>
            <a:chExt cx="2376360" cy="2736720"/>
          </a:xfrm>
        </p:grpSpPr>
        <p:pic>
          <p:nvPicPr>
            <p:cNvPr id="212" name="Picture 5" descr="CIMG4813"/>
            <p:cNvPicPr/>
            <p:nvPr/>
          </p:nvPicPr>
          <p:blipFill>
            <a:blip r:embed="rId2"/>
            <a:stretch/>
          </p:blipFill>
          <p:spPr>
            <a:xfrm>
              <a:off x="5214960" y="3571920"/>
              <a:ext cx="237636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圆角矩形 7"/>
            <p:cNvSpPr/>
            <p:nvPr/>
          </p:nvSpPr>
          <p:spPr>
            <a:xfrm>
              <a:off x="6199200" y="3703680"/>
              <a:ext cx="460080" cy="39348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4" name="TextBox 10"/>
          <p:cNvSpPr/>
          <p:nvPr/>
        </p:nvSpPr>
        <p:spPr>
          <a:xfrm>
            <a:off x="248436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太极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Box 11"/>
          <p:cNvSpPr/>
          <p:nvPr/>
        </p:nvSpPr>
        <p:spPr>
          <a:xfrm>
            <a:off x="6516720" y="602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平衡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71320" y="1341000"/>
            <a:ext cx="83581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强化肢体、躯干、手、足等协调，获得动作准确性、反应速度、可调性和动作节律性，使局部和整体、自身与外部环境协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深部感觉障碍，中枢神经系统损伤后的运动及协调障碍，帕金森病等所致协调运动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125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治疗基础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活动度练习、肌力练习、牵伸技术、关节松动技术、呼吸练习、平衡协调性练习和步态训练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发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神经肌肉本体感觉促进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和运动再学习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P~15"/>
          <p:cNvPicPr/>
          <p:nvPr/>
        </p:nvPicPr>
        <p:blipFill>
          <a:blip r:embed="rId1"/>
          <a:stretch/>
        </p:blipFill>
        <p:spPr>
          <a:xfrm>
            <a:off x="7164360" y="620640"/>
            <a:ext cx="165564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康复护理种类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交替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、躯干协调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手、足协调性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协调性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中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体感觉促进技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步态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99640" y="1484280"/>
            <a:ext cx="475164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和外周神经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骨关节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患者步行能力减退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基础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合动作和实际步行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器械辅助及反馈（机器人，减重及平板练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Picture 2" descr="F:\myr\stroke-2012\skelecton01.jpg"/>
          <p:cNvPicPr/>
          <p:nvPr/>
        </p:nvPicPr>
        <p:blipFill>
          <a:blip r:embed="rId1"/>
          <a:stretch/>
        </p:blipFill>
        <p:spPr>
          <a:xfrm>
            <a:off x="5580000" y="1341360"/>
            <a:ext cx="3044880" cy="273528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3" descr="IMG_2342.JPG"/>
          <p:cNvPicPr/>
          <p:nvPr/>
        </p:nvPicPr>
        <p:blipFill>
          <a:blip r:embed="rId2"/>
          <a:srcRect l="9244" t="0" r="20167" b="17927"/>
          <a:stretch/>
        </p:blipFill>
        <p:spPr>
          <a:xfrm>
            <a:off x="5796000" y="4149720"/>
            <a:ext cx="25304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142640"/>
            <a:ext cx="5857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退行性椎间盘疾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小关节紊乱及生理弧度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滑脱不超过Ⅰ度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部肌肉痉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及其邻近组织肿瘤、结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内动脉严重狭窄且有斑块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颈椎失稳或椎体骨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脊髓压迫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4" descr="CIMG4827"/>
          <p:cNvPicPr/>
          <p:nvPr/>
        </p:nvPicPr>
        <p:blipFill>
          <a:blip r:embed="rId1"/>
          <a:srcRect l="6791" t="0" r="19488" b="0"/>
          <a:stretch/>
        </p:blipFill>
        <p:spPr>
          <a:xfrm>
            <a:off x="5857920" y="1571760"/>
            <a:ext cx="315432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0920" y="141300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牵引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械方式，电动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：坐位，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时间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角度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立位牵引（前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屈位牵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;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颈椎下段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重量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重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最大重量不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kg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腰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间盘突出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退行性椎间盘疾患、腰椎管狭窄症、腰椎小关节紊乱、腰椎退行性骨关节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肌痉挛或紧张、腰背痛及腰腿痛，非手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马尾神经综合征表现的腰部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肺功能障碍及孕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发育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148392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脑损伤后运动控制障碍的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神经肌肉本体感觉促进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N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感觉刺激疗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再学习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4" descr="20040413044308781"/>
          <p:cNvPicPr/>
          <p:nvPr/>
        </p:nvPicPr>
        <p:blipFill>
          <a:blip r:embed="rId1"/>
          <a:stretch/>
        </p:blipFill>
        <p:spPr>
          <a:xfrm>
            <a:off x="6659640" y="2060640"/>
            <a:ext cx="2149560" cy="1981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20040413044308875"/>
          <p:cNvPicPr/>
          <p:nvPr/>
        </p:nvPicPr>
        <p:blipFill>
          <a:blip r:embed="rId2"/>
          <a:stretch/>
        </p:blipFill>
        <p:spPr>
          <a:xfrm>
            <a:off x="6300720" y="4076640"/>
            <a:ext cx="26305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3580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种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range of motion, RO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55640" y="1916280"/>
            <a:ext cx="7632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力：自身，他人，器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主动收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辅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收缩与外部辅助相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6875640" y="458136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肩关节前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5" descr="P~12"/>
          <p:cNvPicPr/>
          <p:nvPr/>
        </p:nvPicPr>
        <p:blipFill>
          <a:blip r:embed="rId1"/>
          <a:stretch/>
        </p:blipFill>
        <p:spPr>
          <a:xfrm>
            <a:off x="6227640" y="1989000"/>
            <a:ext cx="2189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413000"/>
            <a:ext cx="784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MT&lt;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，主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练习前的被动示范，牵伸前预备运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维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血液循环及血管张力，减轻疼痛，加速伤口愈合，运动动作意识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3132000" y="260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护理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3" descr="37AO1752.jpg"/>
          <p:cNvPicPr/>
          <p:nvPr/>
        </p:nvPicPr>
        <p:blipFill>
          <a:blip r:embed="rId1"/>
          <a:srcRect l="1697" t="5944" r="18110" b="0"/>
          <a:stretch/>
        </p:blipFill>
        <p:spPr>
          <a:xfrm>
            <a:off x="539640" y="1052640"/>
            <a:ext cx="3081600" cy="240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611280" y="357336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健侧上肢带动患侧上肢运动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5" descr="37AO1770.jpg"/>
          <p:cNvPicPr/>
          <p:nvPr/>
        </p:nvPicPr>
        <p:blipFill>
          <a:blip r:embed="rId2"/>
          <a:srcRect l="27583" t="29114" r="11034" b="19342"/>
          <a:stretch/>
        </p:blipFill>
        <p:spPr>
          <a:xfrm>
            <a:off x="5003640" y="1125360"/>
            <a:ext cx="3672000" cy="2016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4788000" y="32130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治疗师辅助患者进行髋、膝、踝屈曲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13"/>
          <p:cNvGrpSpPr/>
          <p:nvPr/>
        </p:nvGrpSpPr>
        <p:grpSpPr>
          <a:xfrm>
            <a:off x="5364000" y="3645000"/>
            <a:ext cx="2278080" cy="2827080"/>
            <a:chOff x="5364000" y="3645000"/>
            <a:chExt cx="2278080" cy="2827080"/>
          </a:xfrm>
        </p:grpSpPr>
        <p:pic>
          <p:nvPicPr>
            <p:cNvPr id="132" name="Picture 3" descr="CIMG4819"/>
            <p:cNvPicPr/>
            <p:nvPr/>
          </p:nvPicPr>
          <p:blipFill>
            <a:blip r:embed="rId3"/>
            <a:srcRect l="1186" t="6865" r="0" b="19270"/>
            <a:stretch/>
          </p:blipFill>
          <p:spPr>
            <a:xfrm>
              <a:off x="5364000" y="3645000"/>
              <a:ext cx="2278080" cy="28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圆角矩形 8"/>
            <p:cNvSpPr/>
            <p:nvPr/>
          </p:nvSpPr>
          <p:spPr>
            <a:xfrm>
              <a:off x="5940000" y="4005360"/>
              <a:ext cx="431640" cy="647640"/>
            </a:xfrm>
            <a:custGeom>
              <a:avLst/>
              <a:gdLst>
                <a:gd name="textAreaLeft" fmla="*/ 20880 w 431640"/>
                <a:gd name="textAreaRight" fmla="*/ 410760 w 431640"/>
                <a:gd name="textAreaTop" fmla="*/ 20880 h 647640"/>
                <a:gd name="textAreaBottom" fmla="*/ 626760 h 64764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Box 9"/>
          <p:cNvSpPr/>
          <p:nvPr/>
        </p:nvSpPr>
        <p:spPr>
          <a:xfrm>
            <a:off x="7503840" y="3716280"/>
            <a:ext cx="667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器械辅助下肩关节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图片 10" descr="37AO1744.jpg"/>
          <p:cNvPicPr/>
          <p:nvPr/>
        </p:nvPicPr>
        <p:blipFill>
          <a:blip r:embed="rId4"/>
          <a:srcRect l="24189" t="13605" r="30271" b="12969"/>
          <a:stretch/>
        </p:blipFill>
        <p:spPr>
          <a:xfrm>
            <a:off x="1042920" y="4076640"/>
            <a:ext cx="2376720" cy="2244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2"/>
          <p:cNvSpPr/>
          <p:nvPr/>
        </p:nvSpPr>
        <p:spPr>
          <a:xfrm>
            <a:off x="3571920" y="4221000"/>
            <a:ext cx="423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主动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0773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18920" y="1557000"/>
            <a:ext cx="67928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抗阻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，器械抗阻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爆发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避免用力憋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后的体力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训练过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动作代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引起的肌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禁忌证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炎症期，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99640" y="1628280"/>
            <a:ext cx="80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张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向心运动与离心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开链运动与闭链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速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长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阻练习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200608~天津 046"/>
          <p:cNvPicPr/>
          <p:nvPr/>
        </p:nvPicPr>
        <p:blipFill>
          <a:blip r:embed="rId1"/>
          <a:srcRect l="4425" t="0" r="0" b="9444"/>
          <a:stretch/>
        </p:blipFill>
        <p:spPr>
          <a:xfrm>
            <a:off x="395280" y="1341360"/>
            <a:ext cx="2736720" cy="23749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979640" y="37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CIMG4835"/>
          <p:cNvPicPr/>
          <p:nvPr/>
        </p:nvPicPr>
        <p:blipFill>
          <a:blip r:embed="rId2"/>
          <a:stretch/>
        </p:blipFill>
        <p:spPr>
          <a:xfrm>
            <a:off x="5435640" y="1341360"/>
            <a:ext cx="2881440" cy="2374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1" name="Picture 7" descr="CIMG4831"/>
          <p:cNvPicPr/>
          <p:nvPr/>
        </p:nvPicPr>
        <p:blipFill>
          <a:blip r:embed="rId3"/>
          <a:srcRect l="5759" t="7681" r="6200" b="5613"/>
          <a:stretch/>
        </p:blipFill>
        <p:spPr>
          <a:xfrm>
            <a:off x="5435640" y="3860640"/>
            <a:ext cx="2808360" cy="25815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8392320" y="1700280"/>
            <a:ext cx="4546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器械（哑铃、沙包）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3" name="Picture 6" descr="37AO1625_缩小大小"/>
          <p:cNvPicPr/>
          <p:nvPr/>
        </p:nvPicPr>
        <p:blipFill>
          <a:blip r:embed="rId4"/>
          <a:srcRect l="0" t="0" r="14882" b="38363"/>
          <a:stretch/>
        </p:blipFill>
        <p:spPr>
          <a:xfrm>
            <a:off x="3132000" y="1341360"/>
            <a:ext cx="2200320" cy="237492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11"/>
          <p:cNvGrpSpPr/>
          <p:nvPr/>
        </p:nvGrpSpPr>
        <p:grpSpPr>
          <a:xfrm>
            <a:off x="755640" y="4149720"/>
            <a:ext cx="2305080" cy="2351160"/>
            <a:chOff x="755640" y="4149720"/>
            <a:chExt cx="2305080" cy="2351160"/>
          </a:xfrm>
        </p:grpSpPr>
        <p:pic>
          <p:nvPicPr>
            <p:cNvPr id="155" name="Picture 5" descr="37AO1633_缩小大小"/>
            <p:cNvPicPr/>
            <p:nvPr/>
          </p:nvPicPr>
          <p:blipFill>
            <a:blip r:embed="rId5"/>
            <a:srcRect l="4973" t="15591" r="0" b="10866"/>
            <a:stretch/>
          </p:blipFill>
          <p:spPr>
            <a:xfrm>
              <a:off x="755640" y="4149720"/>
              <a:ext cx="2305080" cy="23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圆角矩形 10"/>
            <p:cNvSpPr/>
            <p:nvPr/>
          </p:nvSpPr>
          <p:spPr>
            <a:xfrm>
              <a:off x="2346480" y="4159080"/>
              <a:ext cx="488880" cy="45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7" name="TextBox 12"/>
          <p:cNvSpPr/>
          <p:nvPr/>
        </p:nvSpPr>
        <p:spPr>
          <a:xfrm>
            <a:off x="2968200" y="4221000"/>
            <a:ext cx="66708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伸膝抗阻练习（弹力带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33:40Z</dcterms:modified>
  <cp:revision>130</cp:revision>
  <dc:subject/>
  <dc:title>内科护理学</dc:title>
</cp:coreProperties>
</file>